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50A-1F32-4A36-85C0-A897D5FF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F04-5E4A-4DAE-A732-800618C1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0F6-7F93-452B-9F78-261E08FF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BFD-8486-4CBF-BA88-F23F489B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C14-D5AA-47A0-B513-6C43DCD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E5B-F3F7-4A0B-8BBA-4E715CC0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B9B-FB9B-47FC-A7AC-67C5882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AAB-1CE1-4D2C-B203-2C28D1E7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C0F-D91D-4688-AD12-0D120D1B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6A9-24D8-474C-9130-4F2F34E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1D8-A07E-45AA-B239-E9A0314F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7F9-37CE-4835-B7B5-88C2A395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32B5-38D7-4211-BCD0-A98713DC3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ctional Strateg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rategy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volunteer will be given a manual containing an overview of the objectives and lessons of t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ining. Expectations for desired outcomes of the training will be explicitly presented in order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ave time and potential confusion. Training will be broken down into small modules each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ich will focus on a specific skill desired of the volunteers (i.e., names of artists, exhibits, and/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eum procedures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ch module will end with a short assessment and each new module will begin with 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ief review of the module before it.  At the end of the last module an assessment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material covered in the training manual will be given in order to ascertain t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etency of the trainees in the skills desired of them. Also, trainees will be free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ke the manuals home between lessons in order to review the material 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mselves and hopefully generate independent interest and motivation. In additio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inees will be allowed to follow experience employees of the museum on tours 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ir leis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trategy 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special section of the training will be devoted to an online tutorial in Exc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vided by Microsoft concluding with a test for comprehension and ability 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end of the module. This will then be incorporated into Strategy 1 dur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walk through training segment to allow trainees to demonstrate and tes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ir abilities in the actual environment in which they will be work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arning Excel in a short period of time would be best served by a supplanti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arning strategy. The online tutorial format is ideal for teaching skills i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ftware applications since it is direct, highly focused, and proven in the field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deliver results. Furthermore, Microsoft is highly experienced in this fiel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rategy 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raining will consist of a "walk-through" style presentation led by a qualified staff member or manag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 the museum versed in the skills desired of the volunteers. Students will be given a checklist of skill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d information which will be checked off as they go through the walk through. The course will consis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 two halves. This will allow the leader to both watch the volunteers at work and to witness firsthan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y shortcomings in their abilities and to pose difficult scenarios to test their abilities. At the end of th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urse the leader can share his/her impressions with the trainees and provide immediate feedback o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they are doing right or wrong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Rationale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s is a simple, low-tech, and direct way of transmitting the desired skills and performa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pectations directly to the volunteers. It also serves the dual purpose of allowing the volunteers t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earn and demonstrate knowledge and the leader of the walk through to assess them, twice. 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fore allows a tremendous amount of exposure between trainees and trainers while imparting th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sired skills. It is also highly economical in terms of wages and man-hour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22:48:20Z</dcterms:created>
  <dc:creator>Michael Burtis</dc:creator>
  <dc:description/>
  <dc:language>en-US</dc:language>
  <cp:lastModifiedBy>Ann M Gall</cp:lastModifiedBy>
  <dcterms:modified xsi:type="dcterms:W3CDTF">2011-07-09T05:36:23Z</dcterms:modified>
  <cp:revision>8</cp:revision>
  <dc:subject/>
  <dc:title>We do I go but to the Lord</dc:title>
</cp:coreProperties>
</file>